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FD7-A07B-4B0A-88AD-DAC5984E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6CA-22AE-4E72-A323-3F4C5D1D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25E-168B-4BA9-8D65-3397FE19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2D7-4F28-4568-BC66-52DB9858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177-C0FF-4CB3-8BCA-843EAED0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551-80B0-438B-AE81-AB94BD47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D53-963A-4446-A63C-7866C1F5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4FA-5E2D-4E79-B528-AA4D7923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F4E-F27A-4529-A4EC-617752F4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843-EAF1-41EC-9934-F24E5870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236-7F17-4B98-AA37-F4200E1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8A2-8943-4E0A-B2AE-270719B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1D8E-229E-4D9C-982C-5DB5F86CB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0880" y="380880"/>
          <a:ext cx="408636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408636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648320" y="380880"/>
          <a:ext cx="4103640" cy="6100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80880"/>
                    <a:ext cx="410364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" name=""/>
          <p:cNvGrpSpPr/>
          <p:nvPr/>
        </p:nvGrpSpPr>
        <p:grpSpPr>
          <a:xfrm>
            <a:off x="297360" y="6400800"/>
            <a:ext cx="8505720" cy="246240"/>
            <a:chOff x="297360" y="6400800"/>
            <a:chExt cx="8505720" cy="246240"/>
          </a:xfrm>
        </p:grpSpPr>
        <p:sp>
          <p:nvSpPr>
            <p:cNvPr id="46" name=""/>
            <p:cNvSpPr/>
            <p:nvPr/>
          </p:nvSpPr>
          <p:spPr>
            <a:xfrm>
              <a:off x="297360" y="6424560"/>
              <a:ext cx="316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:\WINNT\Word Documents\GMS Enterprises\Complete Asmteach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59280" y="640080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/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0880" y="380880"/>
          <a:ext cx="4103640" cy="610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410364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648320" y="380880"/>
          <a:ext cx="4103640" cy="610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80880"/>
                    <a:ext cx="4103640" cy="61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297360" y="6400800"/>
            <a:ext cx="8505720" cy="246240"/>
            <a:chOff x="297360" y="6400800"/>
            <a:chExt cx="8505720" cy="246240"/>
          </a:xfrm>
        </p:grpSpPr>
        <p:sp>
          <p:nvSpPr>
            <p:cNvPr id="53" name=""/>
            <p:cNvSpPr/>
            <p:nvPr/>
          </p:nvSpPr>
          <p:spPr>
            <a:xfrm>
              <a:off x="297360" y="6424560"/>
              <a:ext cx="316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:\WINNT\Word Documents\GMS Enterprises\Complete Asmteach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459280" y="640080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/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380880"/>
          <a:ext cx="4086360" cy="59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4086360" cy="59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8320" y="380880"/>
          <a:ext cx="4113000" cy="610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80880"/>
                    <a:ext cx="4113000" cy="61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297360" y="6400800"/>
            <a:ext cx="8505720" cy="246240"/>
            <a:chOff x="297360" y="6400800"/>
            <a:chExt cx="8505720" cy="246240"/>
          </a:xfrm>
        </p:grpSpPr>
        <p:sp>
          <p:nvSpPr>
            <p:cNvPr id="60" name=""/>
            <p:cNvSpPr/>
            <p:nvPr/>
          </p:nvSpPr>
          <p:spPr>
            <a:xfrm>
              <a:off x="297360" y="6424560"/>
              <a:ext cx="316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:\WINNT\Word Documents\GMS Enterprises\Complete Asmteach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459280" y="640080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/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80880" y="380880"/>
          <a:ext cx="4103640" cy="60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4103640" cy="60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8320" y="380880"/>
          <a:ext cx="4103640" cy="610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80880"/>
                    <a:ext cx="4103640" cy="61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" name=""/>
          <p:cNvGrpSpPr/>
          <p:nvPr/>
        </p:nvGrpSpPr>
        <p:grpSpPr>
          <a:xfrm>
            <a:off x="297360" y="6400800"/>
            <a:ext cx="8505720" cy="246240"/>
            <a:chOff x="297360" y="6400800"/>
            <a:chExt cx="8505720" cy="246240"/>
          </a:xfrm>
        </p:grpSpPr>
        <p:sp>
          <p:nvSpPr>
            <p:cNvPr id="67" name=""/>
            <p:cNvSpPr/>
            <p:nvPr/>
          </p:nvSpPr>
          <p:spPr>
            <a:xfrm>
              <a:off x="297360" y="6424560"/>
              <a:ext cx="316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:\WINNT\Word Documents\GMS Enterprises\Complete Asmteach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9280" y="640080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/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380880"/>
          <a:ext cx="4113360" cy="60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411336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648320" y="457200"/>
          <a:ext cx="4113000" cy="5983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"/>
                    <a:ext cx="41130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"/>
          <p:cNvGrpSpPr/>
          <p:nvPr/>
        </p:nvGrpSpPr>
        <p:grpSpPr>
          <a:xfrm>
            <a:off x="297360" y="6400800"/>
            <a:ext cx="8505720" cy="246240"/>
            <a:chOff x="297360" y="6400800"/>
            <a:chExt cx="8505720" cy="246240"/>
          </a:xfrm>
        </p:grpSpPr>
        <p:sp>
          <p:nvSpPr>
            <p:cNvPr id="74" name=""/>
            <p:cNvSpPr/>
            <p:nvPr/>
          </p:nvSpPr>
          <p:spPr>
            <a:xfrm>
              <a:off x="297360" y="6424560"/>
              <a:ext cx="316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:\WINNT\Word Documents\GMS Enterprises\Complete Asmteach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59280" y="640080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/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80880" y="380880"/>
          <a:ext cx="4103640" cy="61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4103640" cy="61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648320" y="380880"/>
          <a:ext cx="4113000" cy="6086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80880"/>
                    <a:ext cx="411300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" name=""/>
          <p:cNvGrpSpPr/>
          <p:nvPr/>
        </p:nvGrpSpPr>
        <p:grpSpPr>
          <a:xfrm>
            <a:off x="297360" y="6400800"/>
            <a:ext cx="8505720" cy="246240"/>
            <a:chOff x="297360" y="6400800"/>
            <a:chExt cx="8505720" cy="246240"/>
          </a:xfrm>
        </p:grpSpPr>
        <p:sp>
          <p:nvSpPr>
            <p:cNvPr id="81" name=""/>
            <p:cNvSpPr/>
            <p:nvPr/>
          </p:nvSpPr>
          <p:spPr>
            <a:xfrm>
              <a:off x="297360" y="6424560"/>
              <a:ext cx="316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:\WINNT\Word Documents\GMS Enterprises\Complete Asmteach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59280" y="640080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/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836800" y="380880"/>
          <a:ext cx="49356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6800" y="380880"/>
                    <a:ext cx="49356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297360" y="6400800"/>
            <a:ext cx="8505720" cy="246240"/>
            <a:chOff x="297360" y="6400800"/>
            <a:chExt cx="8505720" cy="246240"/>
          </a:xfrm>
        </p:grpSpPr>
        <p:sp>
          <p:nvSpPr>
            <p:cNvPr id="86" name=""/>
            <p:cNvSpPr/>
            <p:nvPr/>
          </p:nvSpPr>
          <p:spPr>
            <a:xfrm>
              <a:off x="297360" y="6424560"/>
              <a:ext cx="316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:\WINNT\Word Documents\GMS Enterprises\Complete Asmteach.p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459280" y="640080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/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1T04:59:28Z</dcterms:created>
  <dc:creator>Grand Master Sevak</dc:creator>
  <dc:description/>
  <dc:language>en-US</dc:language>
  <cp:lastModifiedBy>Grand Master Sevak</cp:lastModifiedBy>
  <dcterms:modified xsi:type="dcterms:W3CDTF">1998-12-11T05:30:00Z</dcterms:modified>
  <cp:revision>3</cp:revision>
  <dc:subject/>
  <dc:title>No Slide Title</dc:title>
</cp:coreProperties>
</file>