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3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2.gif" ContentType="image/gif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13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B420-60FD-4CB9-9EE9-D955D42B9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92C-83EE-4E1F-B7DC-07984E3E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AD77-68B2-4BE3-B76D-8D9A67C8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36AB-2101-41BF-ABD6-69545037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B71E-70D7-4373-AF76-1D9B2FFC6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FF54-2D97-490F-B8D6-D999C97E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BC8E-7C56-4AC3-B365-067FA35AA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6BD76-BAE6-4729-86CD-E1736BD7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0BB4-68F9-4D4A-A5B5-17FE5D57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0DDA-9887-4419-9820-F7A05C11D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2998-F04B-45DD-9924-815B3F55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6558-CE54-40DE-8790-392968E2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1929-EFB3-44CA-B434-72D7F5A7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B057-D4D8-477D-88C1-5727BD25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1732-EB17-4A42-85A2-9B1FBF57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A398-0883-418D-AB58-905D05495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0FC2B-1712-4DA6-AC55-2108921F6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CDF7-2C30-42A8-B188-B04754FE9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BD2A-33FB-40D1-A1E3-03BDB855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AEDA-C875-4B23-BCAA-18C1FD4F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979-46A8-4B52-8B86-D4F3F17E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6A82-CC7F-43A5-9330-800D7363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B20B-CAD5-4243-9936-5BEE77D8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807A-6ABF-4A72-87C3-CB27ED0C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21DE4-48D6-4724-A29E-7AAE1F29BE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A676-D61B-4F12-86BB-C49A0A29A6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image" Target="../media/image20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2.jpe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4.jpeg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6.jpe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29.jpeg"/><Relationship Id="rId1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0.jpeg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2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will_white25@hotmail.co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066320" y="4952880"/>
            <a:ext cx="708660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Presentation of TI Calcul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William Whit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ll_white25@hotmail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28600" y="0"/>
            <a:ext cx="89154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28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Texas Instru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12 Math Explor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in 1987, this solar powered wonder had many math func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explor" descr=""/>
          <p:cNvPicPr/>
          <p:nvPr/>
        </p:nvPicPr>
        <p:blipFill>
          <a:blip r:embed="rId2"/>
          <a:stretch/>
        </p:blipFill>
        <p:spPr>
          <a:xfrm>
            <a:off x="4754520" y="1828800"/>
            <a:ext cx="34718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68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988, the TI-68 came out as an improvement to the TI-12 Math Explor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68" descr=""/>
          <p:cNvPicPr/>
          <p:nvPr/>
        </p:nvPicPr>
        <p:blipFill>
          <a:blip r:embed="rId2"/>
          <a:stretch/>
        </p:blipFill>
        <p:spPr>
          <a:xfrm>
            <a:off x="4419720" y="1828800"/>
            <a:ext cx="41907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A-II Plu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del was released in 1991 as a powerful business calcul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baiip" descr=""/>
          <p:cNvPicPr/>
          <p:nvPr/>
        </p:nvPicPr>
        <p:blipFill>
          <a:blip r:embed="rId2"/>
          <a:stretch/>
        </p:blipFill>
        <p:spPr>
          <a:xfrm>
            <a:off x="4495680" y="2122560"/>
            <a:ext cx="3962520" cy="38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A Real Estat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Real Estate transactions, this was released in 199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bare" descr=""/>
          <p:cNvPicPr/>
          <p:nvPr/>
        </p:nvPicPr>
        <p:blipFill>
          <a:blip r:embed="rId2"/>
          <a:stretch/>
        </p:blipFill>
        <p:spPr>
          <a:xfrm>
            <a:off x="4819680" y="1600200"/>
            <a:ext cx="37879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alculator Based Laboratory (CBL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s to the TI-73, TI-82, TI-83, TI-83+, TI-83+ SE, TI-85, TI-86, TI-89, TI-92, TI-92+, and Voyager 200. This was released in 199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cbl" descr=""/>
          <p:cNvPicPr/>
          <p:nvPr/>
        </p:nvPicPr>
        <p:blipFill>
          <a:blip r:embed="rId2"/>
          <a:stretch/>
        </p:blipFill>
        <p:spPr>
          <a:xfrm>
            <a:off x="6019920" y="1981080"/>
            <a:ext cx="2589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alculator Based  Ranger (CBR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s to the TI-73, TI-82, TI-83, TI-83+, TI-83+ SE, TI-85, TI-86, TI-89, TI-92, TI-92+, and Voyager 200. This was released in 199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cbr" descr=""/>
          <p:cNvPicPr/>
          <p:nvPr/>
        </p:nvPicPr>
        <p:blipFill>
          <a:blip r:embed="rId2"/>
          <a:stretch/>
        </p:blipFill>
        <p:spPr>
          <a:xfrm>
            <a:off x="5791320" y="1523880"/>
            <a:ext cx="33350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-1080"/>
            <a:ext cx="81536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alculator Based Laboratory 2 (CBL2)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nects to the TI-73, TI-82, TI-83, TI-83+, TI-83+ SE, TI-85, TI-86, TI-89, TI-92, TI-92+, and Voyager 200. I’m not sure when this was relea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TEXCBL2" descr=""/>
          <p:cNvPicPr/>
          <p:nvPr/>
        </p:nvPicPr>
        <p:blipFill>
          <a:blip r:embed="rId2"/>
          <a:stretch/>
        </p:blipFill>
        <p:spPr>
          <a:xfrm>
            <a:off x="2743200" y="2982960"/>
            <a:ext cx="419112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to Graphing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’s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raphing calculator was invented in 1990, &amp; was the TI-81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ory(bytes):2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reen Size: 64x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ash: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U: z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d: 2 M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 port: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BR/CBL Support: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Screen Model: 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81" descr=""/>
          <p:cNvPicPr/>
          <p:nvPr/>
        </p:nvPicPr>
        <p:blipFill>
          <a:blip r:embed="rId10"/>
          <a:stretch/>
        </p:blipFill>
        <p:spPr>
          <a:xfrm>
            <a:off x="4572000" y="1905120"/>
            <a:ext cx="4308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85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952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in 199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286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Size:64x1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: 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U: z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: 6 M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R/CBL Support: Yes, ROM versions 9.0 or b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creen Model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85" descr=""/>
          <p:cNvPicPr/>
          <p:nvPr/>
        </p:nvPicPr>
        <p:blipFill>
          <a:blip r:embed="rId10"/>
          <a:stretch/>
        </p:blipFill>
        <p:spPr>
          <a:xfrm>
            <a:off x="5029200" y="1600200"/>
            <a:ext cx="375768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82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4419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in 199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 286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Size:64x9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: 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U: z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: 6 M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R/CBL Sup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creen Model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82" descr=""/>
          <p:cNvPicPr/>
          <p:nvPr/>
        </p:nvPicPr>
        <p:blipFill>
          <a:blip r:embed="rId10"/>
          <a:stretch/>
        </p:blipFill>
        <p:spPr>
          <a:xfrm>
            <a:off x="5710320" y="609480"/>
            <a:ext cx="26384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In the beginning,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as Instruments started on April 24, 1916, under a different nam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’s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lectronic hand-held calculator was invented in 1967, by Jack Kilby, Jerry Merryman, and James Van Tass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calc" descr=""/>
          <p:cNvPicPr/>
          <p:nvPr/>
        </p:nvPicPr>
        <p:blipFill>
          <a:blip r:embed="rId3"/>
          <a:stretch/>
        </p:blipFill>
        <p:spPr>
          <a:xfrm>
            <a:off x="4648320" y="2057400"/>
            <a:ext cx="38098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8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in 19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716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Size:48x6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: 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U: z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: 980 K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port: ViewScreen 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R/CBL Support: 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creen Model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80" descr=""/>
          <p:cNvPicPr/>
          <p:nvPr/>
        </p:nvPicPr>
        <p:blipFill>
          <a:blip r:embed="rId10"/>
          <a:stretch/>
        </p:blipFill>
        <p:spPr>
          <a:xfrm>
            <a:off x="4952880" y="1219320"/>
            <a:ext cx="419112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92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in 19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 19251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Size: 128x2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: 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U: Motorola 68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: 6 M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R/CBL Sup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creen Model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92" descr=""/>
          <p:cNvPicPr/>
          <p:nvPr/>
        </p:nvPicPr>
        <p:blipFill>
          <a:blip r:embed="rId10"/>
          <a:stretch/>
        </p:blipFill>
        <p:spPr>
          <a:xfrm>
            <a:off x="4267080" y="220968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83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in 19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716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Size:64x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: 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U: z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: 980 K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R/CBL Sup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creen Model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83" descr=""/>
          <p:cNvPicPr/>
          <p:nvPr/>
        </p:nvPicPr>
        <p:blipFill>
          <a:blip r:embed="rId10"/>
          <a:stretch/>
        </p:blipFill>
        <p:spPr>
          <a:xfrm>
            <a:off x="5943600" y="838080"/>
            <a:ext cx="26668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86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in 19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983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Size:64x12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: 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U: z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: 6 K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R/CBL Sup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creen Model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86small" descr=""/>
          <p:cNvPicPr/>
          <p:nvPr/>
        </p:nvPicPr>
        <p:blipFill>
          <a:blip r:embed="rId10"/>
          <a:stretch/>
        </p:blipFill>
        <p:spPr>
          <a:xfrm>
            <a:off x="4800600" y="1295280"/>
            <a:ext cx="40942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83+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in 19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 19215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Size:64x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U: z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: 980 K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R/CBL Sup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creen Model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83p" descr=""/>
          <p:cNvPicPr/>
          <p:nvPr/>
        </p:nvPicPr>
        <p:blipFill>
          <a:blip r:embed="rId10"/>
          <a:stretch/>
        </p:blipFill>
        <p:spPr>
          <a:xfrm>
            <a:off x="5791320" y="838080"/>
            <a:ext cx="2527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73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in 19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 983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Size: 64x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U: z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: 980 K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R/CBL Sup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creen Model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73" descr=""/>
          <p:cNvPicPr/>
          <p:nvPr/>
        </p:nvPicPr>
        <p:blipFill>
          <a:blip r:embed="rId10"/>
          <a:stretch/>
        </p:blipFill>
        <p:spPr>
          <a:xfrm>
            <a:off x="4876920" y="1066680"/>
            <a:ext cx="3200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89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in 199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 585728 (HW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 911360 (HW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Size:100x16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U: Motorola 68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: ~20 M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R/CBL Sup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creen Model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89" descr=""/>
          <p:cNvPicPr/>
          <p:nvPr/>
        </p:nvPicPr>
        <p:blipFill>
          <a:blip r:embed="rId11"/>
          <a:stretch/>
        </p:blipFill>
        <p:spPr>
          <a:xfrm>
            <a:off x="5410080" y="1066680"/>
            <a:ext cx="3513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92+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5486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585728 (HW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 911360 (HW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Size:128x2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U: Motorola 68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: ~20 M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R/CBL Sup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creen Model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92pluscalc" descr=""/>
          <p:cNvPicPr/>
          <p:nvPr/>
        </p:nvPicPr>
        <p:blipFill>
          <a:blip r:embed="rId11"/>
          <a:stretch/>
        </p:blipFill>
        <p:spPr>
          <a:xfrm>
            <a:off x="4267080" y="2590920"/>
            <a:ext cx="464832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83+ Silver Edi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in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 163997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Size:64x9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U: z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: ~20 M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R/CBL Sup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creen Model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83plusse" descr=""/>
          <p:cNvPicPr/>
          <p:nvPr/>
        </p:nvPicPr>
        <p:blipFill>
          <a:blip r:embed="rId10"/>
          <a:stretch/>
        </p:blipFill>
        <p:spPr>
          <a:xfrm>
            <a:off x="5715000" y="1143000"/>
            <a:ext cx="23623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Voyager 20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472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eased in 200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ory(bytes): 2.5M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reen Size:128x24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sh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PU: Motorola 68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: ~20 M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BR/CBL Support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ewScreen Model: Y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voy200low" descr=""/>
          <p:cNvPicPr/>
          <p:nvPr/>
        </p:nvPicPr>
        <p:blipFill>
          <a:blip r:embed="rId10"/>
          <a:stretch/>
        </p:blipFill>
        <p:spPr>
          <a:xfrm>
            <a:off x="4267080" y="1447920"/>
            <a:ext cx="4572000" cy="32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2500 DataMath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6248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came out in 1972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datamath" descr=""/>
          <p:cNvPicPr/>
          <p:nvPr/>
        </p:nvPicPr>
        <p:blipFill>
          <a:blip r:embed="rId2"/>
          <a:stretch/>
        </p:blipFill>
        <p:spPr>
          <a:xfrm>
            <a:off x="2057400" y="2286000"/>
            <a:ext cx="52578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omments / Correction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find anything wrong with the information provided, please contact </a:t>
            </a:r>
            <a:r>
              <a:rPr b="0" lang="en-US" sz="3200" spc="-1" strike="noStrike" u="sng">
                <a:solidFill>
                  <a:srgbClr val="f98d43"/>
                </a:solidFill>
                <a:uFillTx/>
                <a:latin typeface="Arial"/>
                <a:hlinkClick r:id="rId2"/>
              </a:rPr>
              <a:t>William Whit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 for your time. This is just practice for a much bigger pro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R-XX Slide Rul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in 197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R-50 made in 197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R-52 made in 1975, programmable with magnetic card storag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sr10" descr=""/>
          <p:cNvPicPr/>
          <p:nvPr/>
        </p:nvPicPr>
        <p:blipFill>
          <a:blip r:embed="rId4"/>
          <a:stretch/>
        </p:blipFill>
        <p:spPr>
          <a:xfrm>
            <a:off x="4495680" y="1752480"/>
            <a:ext cx="4178520" cy="42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504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’s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esktop printing model, invented in 197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5040" descr=""/>
          <p:cNvPicPr/>
          <p:nvPr/>
        </p:nvPicPr>
        <p:blipFill>
          <a:blip r:embed="rId2"/>
          <a:stretch/>
        </p:blipFill>
        <p:spPr>
          <a:xfrm>
            <a:off x="3886200" y="1752480"/>
            <a:ext cx="487692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59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90512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in 1977, this was programmable, offering Solid State Software and a magnetic card read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59" descr=""/>
          <p:cNvPicPr/>
          <p:nvPr/>
        </p:nvPicPr>
        <p:blipFill>
          <a:blip r:embed="rId2"/>
          <a:stretch/>
        </p:blipFill>
        <p:spPr>
          <a:xfrm>
            <a:off x="4191120" y="1523880"/>
            <a:ext cx="4689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103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205740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model was made in 1978, was the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MOS/LCD, and ran for 3000 hours on small silver oxide batte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1030" descr=""/>
          <p:cNvPicPr/>
          <p:nvPr/>
        </p:nvPicPr>
        <p:blipFill>
          <a:blip r:embed="rId2"/>
          <a:stretch/>
        </p:blipFill>
        <p:spPr>
          <a:xfrm>
            <a:off x="4343400" y="1752480"/>
            <a:ext cx="449568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1766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in 1981, this was TI’s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lar powered calcula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1766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016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TI-30 SL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’s 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lar powered slide rule calculator was made in 1982. The TI-30 Galaxy was developed in Europe with pedagogical features in 198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30slr" descr=""/>
          <p:cNvPicPr/>
          <p:nvPr/>
        </p:nvPicPr>
        <p:blipFill>
          <a:blip r:embed="rId2"/>
          <a:stretch/>
        </p:blipFill>
        <p:spPr>
          <a:xfrm>
            <a:off x="5257800" y="1600200"/>
            <a:ext cx="26668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ackman High School</cp:lastModifiedBy>
  <dcterms:modified xsi:type="dcterms:W3CDTF">2003-02-13T20:52:30Z</dcterms:modified>
  <cp:revision>42</cp:revision>
  <dc:subject/>
  <dc:title>PowerPoint Presentation</dc:title>
</cp:coreProperties>
</file>