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520-C662-4ED1-90A5-2B25C34A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C6B-3CF3-4A91-8DA5-2B4441A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8BD-1DA2-4935-B58E-9A997248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629-F87F-455D-A560-A8361ED2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7F6D-E1D8-4AC3-9A65-CA7870AA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0F89-C07C-4D7B-A461-00C2EE0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F3D-420A-48DF-81D7-226A02A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6BE-D756-41DF-B7D6-88CA7245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EB57-D661-433A-97E1-ACADD267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24E-7A32-45D5-BE43-17B2462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E7D-8A90-48C4-AA5B-4B192A9A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29F-2BB6-42E8-BA3C-2A1B4BF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9FE-6FE3-4C91-8C9A-3182B55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B96B-66FD-4F72-A301-7FDD697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16C-B2AE-4070-8EFF-1FFE632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2D0F-65EC-4E94-9808-A13F610B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3E44-CA73-4410-BDA2-463F1C1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97E-D01F-46BB-9BB7-031D4B26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E15-DE86-4961-9B6A-3BA5B104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843-AE00-48BE-BF6F-01E4819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CF0-4928-4A54-8D5C-9DE03E59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433-0D9B-4FEF-B523-4520F21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47F-CF44-4924-A337-DD10EEB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5B0-CACF-4933-9BCF-FE0BD28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E211-77F0-4203-9E98-79FE6EF797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34E9-DCBD-4AE7-9898-9F7171C20E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dd-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will help you build great programs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a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bas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itten by Edward Carn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b Software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5:01Z</dcterms:created>
  <dc:creator>schering-plough</dc:creator>
  <dc:description/>
  <dc:language>en-US</dc:language>
  <cp:lastModifiedBy>schering-plough</cp:lastModifiedBy>
  <dcterms:modified xsi:type="dcterms:W3CDTF">2001-01-08T01:46:55Z</dcterms:modified>
  <cp:revision>1</cp:revision>
  <dc:subject/>
  <dc:title>Add-ons</dc:title>
</cp:coreProperties>
</file>