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7C8-6B5F-4AD8-83A9-223AD817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257-5A73-4580-A632-70D2D044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0DB-F6B9-4235-B525-BDBFE3CF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FF7-EAC8-498F-95A7-343A6B5C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5D53-2DE5-4A58-9B62-858770CE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B1E2-968A-4EFD-8E68-761E8AA6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18EB-1CFD-4429-9B24-8926AEB8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3759-39B0-4008-914B-9E942C2F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02DB-7227-4ADD-A186-B28FB425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1942-FF7E-4F75-82F4-C3772CD9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E08E-39F1-4B9E-BDFE-F8AC6F12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8F8-0100-4807-B7A8-D13F5B5F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89B0-499E-42A4-AB99-DEAE13DC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9285-D12C-45CD-8960-214FDE1E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D97F-882B-46B5-89E6-0BA4157F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3DDF-8955-4FC5-A1EF-5E7F1A77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5F01-4434-4F32-96FB-6F23DEEE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63A-1A10-4945-AC01-9D6FE389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8DE-2996-4EF2-90A9-00BB1BD4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34B-834F-45C1-A042-03579279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B63-ADE7-484B-BA95-C1A32273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D7A-67D2-4522-AD62-A3E7233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E19-E2F8-473B-9A57-B6735AE1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84E-1B9D-4B52-B235-17F54F78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2F9C-F45D-484C-9597-97B47D33A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ABC9-9C55-4926-B747-AD82289CB1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icalc.org/" TargetMode="External"/><Relationship Id="rId2" Type="http://schemas.openxmlformats.org/officeDocument/2006/relationships/hyperlink" Target="mailto:everlastpro17@hotmail.co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athematics Coll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: Kris Fisc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iance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athematics Coll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s of a few programs helpful in Geometry and Algeb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sy-to-navigate through, through the use of user-created men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organized and appeal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dates &amp; Not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for updates in the near future for “The Mathematics Collection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part of the program is navigational through user-created menus except the last part of it; which consists of some geometry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struc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very simple! Just send MATHCLCT.8XP to your TI-83 Plus! There ya go! Have fu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pcoming Progra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will be an extensive line of programs to come out from The Alli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s will range from all sorts of types including math, science, and g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ope you enjo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out The Allia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rogramming group that will come out with a nice line of programs for all sorts of calculators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-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-83 P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-85 and TI-8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-89 and TI-92 P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and Basic programs will be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re About The Allia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soon as we get our web-page up and running, we will post the announcement on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ticalc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have any questions or comments, send an email to:   </a:t>
            </a: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everlastpro17@hotmail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e Hope You Enjoy!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ught To You By: The All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0:39:22Z</dcterms:created>
  <dc:creator>Kris Fischer</dc:creator>
  <dc:description/>
  <dc:language>en-US</dc:language>
  <cp:lastModifiedBy>Kris Fischer</cp:lastModifiedBy>
  <dcterms:modified xsi:type="dcterms:W3CDTF">2002-02-25T11:11:14Z</dcterms:modified>
  <cp:revision>2</cp:revision>
  <dc:subject/>
  <dc:title>The Mathematics Collection</dc:title>
</cp:coreProperties>
</file>