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984E-B113-4862-8212-0BDB8F280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1B42C-1736-4D56-BEF9-6B8CB578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CFD5-466E-4681-9CA6-02F2D1D1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60A8E-668D-4A36-AF7C-33EC2CAE4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4EAA-5833-470E-ACF9-95CE3E7E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6131-951F-4298-BF8C-A71535DB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0B9E-D138-431B-8AB4-DBF2E36D6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AEA6-8BDA-4433-A3CC-478A85F7C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A87A-0F49-49CB-BA38-AADCBC04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3672-18D1-421F-BF17-23FB9F22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731F-04E0-4B72-AEE0-9BAF15F2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831D-FE4D-4B58-B60B-6DD88A6F2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47B1-8030-4A5E-9DFA-1E1F2BBDE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1" descr=""/>
          <p:cNvPicPr/>
          <p:nvPr/>
        </p:nvPicPr>
        <p:blipFill>
          <a:blip r:embed="rId1"/>
          <a:stretch/>
        </p:blipFill>
        <p:spPr>
          <a:xfrm>
            <a:off x="4800600" y="3809880"/>
            <a:ext cx="4191120" cy="2849760"/>
          </a:xfrm>
          <a:prstGeom prst="rect">
            <a:avLst/>
          </a:prstGeom>
          <a:ln w="0">
            <a:noFill/>
          </a:ln>
        </p:spPr>
      </p:pic>
      <p:sp>
        <p:nvSpPr>
          <p:cNvPr id="42" name=""/>
          <p:cNvSpPr txBox="1"/>
          <p:nvPr/>
        </p:nvSpPr>
        <p:spPr>
          <a:xfrm>
            <a:off x="2666880" y="76320"/>
            <a:ext cx="31244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Graph2</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43" name=""/>
          <p:cNvSpPr/>
          <p:nvPr/>
        </p:nvSpPr>
        <p:spPr>
          <a:xfrm>
            <a:off x="0" y="1600200"/>
            <a:ext cx="4038480" cy="531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st screensaver that you have ever s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John Micona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cal Texas Institute of Creativity (LTIC)</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 you for downloading this wonderful program, it contains two programs, the first program (Graph2) with less memory, and the more recent program (GraphC) that consists of the same contents except it has transitions that are slow, but this program (GraphC) wasn’t written for speed, but to keep your screen.  Trust me, when I wrote this program, I didn’t know anything about ‘While’ or any other program language terms that would have helped this program have a smaller size. I think you will like this. If you don’t, them send me an e-mail with ‘Graph2 and GraphC suck!’as the title to Way2kool2b4go10@aol.com, then state the problems with the progra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ank you,</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maal Hawki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02:37:21Z</dcterms:created>
  <dc:creator>Glen &amp; Yvonne Hawkins</dc:creator>
  <dc:description/>
  <dc:language>en-US</dc:language>
  <cp:lastModifiedBy>Glen &amp; Yvonne Hawkins</cp:lastModifiedBy>
  <dcterms:modified xsi:type="dcterms:W3CDTF">2002-03-13T02:53:08Z</dcterms:modified>
  <cp:revision>1</cp:revision>
  <dc:subject/>
  <dc:title>No Slide Title</dc:title>
</cp:coreProperties>
</file>